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3B87-46FD-482E-BAF7-EBFFAC889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0719-FF8A-4279-BB9C-356DDA9B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B090-B815-4B7A-9EB3-B614397AE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F736-2FDE-4041-9F02-2F4612B0A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9C7C-DAE0-4C70-B9A8-EF20746C6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081D-ADD3-4ADF-97C1-14862337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4CD9-8FC7-466B-80FF-5E5E9C1B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25E8-6506-4AAA-82A9-16A0B8C7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929D-FCB7-482F-8857-F13AB27E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E87F-2A60-4FAD-B7AD-32F3EB9C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CD48-C99F-4AE5-8B8B-E2AD1641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F777-A1CA-4A40-B232-2F54F5E4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1A67-000C-4E2F-B7C8-25C35B1C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A532-26D3-407A-B1B8-2BE3B287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816BF-55BA-431C-85E2-C8997257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A378-5EE7-4DB1-9251-70602FC0B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F372-AC8C-498B-B1C0-1E8524314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E059-A7F0-4440-9058-0665773F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9C83-8CCD-42A2-9452-0492CAFD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CE9F-379A-4305-AF11-D872859F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8300-C800-46B7-993A-A35C13E2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80E8-A735-4F08-98E1-CD7CC30D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F5CC-C36C-43E0-B0A1-88F56E12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0946-EF4A-4FEC-8502-AB335795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CC65-7A73-4B6E-B9C2-397B9E4E326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8A5C-CD91-4C5C-8389-6D1EF95DDA8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191120" y="152280"/>
            <a:ext cx="4628880" cy="6172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04920" y="2438280"/>
            <a:ext cx="3809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Sylfaen"/>
              </a:rPr>
              <a:t>I think, at a child’s birth, if a mother could ask a fairy godmother to endow it with the most useful gift, that gift would be curiosity. –Eleanor Roosev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7T01:03:39Z</dcterms:created>
  <dc:creator>Hugelman</dc:creator>
  <dc:description/>
  <dc:language>en-US</dc:language>
  <cp:lastModifiedBy>Hugelman</cp:lastModifiedBy>
  <dcterms:modified xsi:type="dcterms:W3CDTF">2010-05-07T01:19:44Z</dcterms:modified>
  <cp:revision>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